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B5BF-729C-47D5-844B-AFF640B6D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C6D7-F233-4227-8767-5BD38FA0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521B-5992-4021-BB71-B3FDBCBD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2D37-419E-4EB5-8323-A99F4CD9F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84CF-55F4-4C77-B80C-1477EECD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9B6C-603A-4CB7-A573-C4A6D7CF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93ED-27D0-49D7-9779-5381B0B9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B3D5-78A8-42E7-84C5-6CBDE9F2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234B-0DF1-4DD1-A316-4D806A9E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BCA8-25E5-40D5-A50C-0A11D833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5505-369B-4C15-AE66-6285CA2C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F2EF-9C71-4912-B41D-FE7A1DFF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569E-9D70-4406-9747-43EBA0922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5080" y="304920"/>
            <a:ext cx="8908920" cy="1498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8960" y="224640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52480" y="2209680"/>
            <a:ext cx="2934000" cy="390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80880" y="3048120"/>
            <a:ext cx="8015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79120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229600" cy="1149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38080" y="2286000"/>
            <a:ext cx="381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22096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72200" y="228600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05920" cy="13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1699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0" y="1828800"/>
            <a:ext cx="5335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18288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077320" y="1828800"/>
            <a:ext cx="3045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2666880"/>
            <a:ext cx="19051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2T22:55:58Z</dcterms:created>
  <dc:creator>Graham</dc:creator>
  <dc:description/>
  <dc:language>en-US</dc:language>
  <cp:lastModifiedBy>Graham</cp:lastModifiedBy>
  <dcterms:modified xsi:type="dcterms:W3CDTF">2011-10-22T23:31:04Z</dcterms:modified>
  <cp:revision>2</cp:revision>
  <dc:subject/>
  <dc:title>Slide 1</dc:title>
</cp:coreProperties>
</file>